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F821-ABCC-4CBE-9F8D-283177B7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219D-4FCB-48A4-B457-49191CBD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E24-4DBD-46AE-ABA5-C3C9398A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FE4F-F050-499D-BA33-E4B5D891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A63-F9A2-4BE1-8696-89FF5815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4CE6-A190-4272-81E0-184EB1F7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185A-8724-4E0D-BC1A-10C43C2A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BF5-F11F-4889-9199-9ACA80A0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C6B5-18D5-4223-BEAE-951F6217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2B18-1851-49FE-B7C2-0B7707EB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2ACB-2D2C-467D-AF6C-AD12EC3C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576-6A49-49A0-B08F-5DC14906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BDB7-DF11-4109-BDEF-F7C642DB1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utomated Teller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od or B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oss of Priv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sue relates to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sue relates to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ditiona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e’s where you can add any other issues that you have f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igh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w weigh up all the issues and decide…are ATMs good or b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ould use terminology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pite the fact that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hough the issues of ….., the main overriding advantage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all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an AT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then describe how an ATM works – you do not need to be too technical. Imagine your audience is a Year 7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benefi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the iss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00000" y="2060280"/>
            <a:ext cx="6872400" cy="35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nking to Sylla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ienation and custom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ss of 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 and Anonym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Proper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ty of Acc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ization and Cultural Divers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and Standar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nd Machi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ienation and customer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ss of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sue relates to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line in employ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 in employment in computer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lienation and customer servi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sue relates to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s human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sue relates to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04:43:15Z</dcterms:created>
  <dc:creator>mabr</dc:creator>
  <dc:description/>
  <dc:language>en-US</dc:language>
  <cp:lastModifiedBy>Administrator</cp:lastModifiedBy>
  <dcterms:modified xsi:type="dcterms:W3CDTF">2005-10-06T05:09:02Z</dcterms:modified>
  <cp:revision>7</cp:revision>
  <dc:subject/>
  <dc:title>Automated Teller Machines</dc:title>
</cp:coreProperties>
</file>